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83953"/>
        <c:axId val="30863794"/>
      </c:barChart>
      <c:catAx>
        <c:axId val="63183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63794"/>
        <c:crosses val="autoZero"/>
        <c:auto val="1"/>
        <c:lblAlgn val="ctr"/>
        <c:lblOffset val="100"/>
        <c:noMultiLvlLbl val="0"/>
      </c:catAx>
      <c:valAx>
        <c:axId val="30863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83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B60-6F17-4E5D-920F-5BB08A26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BEF-DE10-413E-A9D9-CA81D5F3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AA7-10B4-4D14-8D8B-7A463C31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2AF-F55E-422F-9069-9949F2AA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9D2-5305-4BAB-8224-83FB6247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DD2-08F6-4C63-82C5-6166D25C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954-58FC-4197-8C0B-9688B824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CE8-51E2-4231-8742-0F2CD265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5F6-3C13-4776-8A73-79B8A1D4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00B-5BC9-4627-A8FC-02359272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EF5-3EE2-42DA-875E-22778B4C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D57-62A4-4BE8-AF27-289E931B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CC947-01F7-46F1-808C-7D9CAFC89E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