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76749"/>
        <c:axId val="40272232"/>
      </c:barChart>
      <c:catAx>
        <c:axId val="12576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72232"/>
        <c:crosses val="autoZero"/>
        <c:auto val="1"/>
        <c:lblAlgn val="ctr"/>
        <c:lblOffset val="100"/>
        <c:noMultiLvlLbl val="0"/>
      </c:catAx>
      <c:valAx>
        <c:axId val="40272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76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E71-360A-4832-8DD1-EA495674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948-E629-453D-877E-D7A9801B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6A7-D11B-405E-A83C-3212E4B2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AA2-1E73-4497-B806-2183D9A3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A1C-4BED-4C51-B85C-32D054AB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3C8-9330-4565-B0C2-E141E198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3D5-BB90-414A-9CCB-E6DBFA94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B09-EEC0-44C8-9CC1-A261945C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819-8772-46CD-B347-2B745ED6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CCE-E4CD-48AA-AC1F-2BABE8A3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1D1-2F9C-4FFB-8C8A-9F7E529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F5E-E4F0-4665-85D1-49397844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690AA-F833-4F7A-BB5E-8CB2AAF699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