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30419"/>
        <c:axId val="34226416"/>
      </c:barChart>
      <c:catAx>
        <c:axId val="29530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26416"/>
        <c:crosses val="autoZero"/>
        <c:auto val="1"/>
        <c:lblAlgn val="ctr"/>
        <c:lblOffset val="100"/>
        <c:noMultiLvlLbl val="0"/>
      </c:catAx>
      <c:valAx>
        <c:axId val="34226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30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9FC-D5CD-4E9F-A49B-D1C3DE7C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7D7-992A-4593-B906-308568D3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522-08E5-4067-B0DE-BEC98712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9B5-66D1-4B6C-B629-6AF775A0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F38-3AAF-4AE0-9870-AFBCD016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B5D-AA2B-40BD-8F74-92998FD9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800-E5B2-498F-A1E3-C88803B1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334-B3A8-4D2C-B54D-4B413CEA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981-CA3C-4A32-87AB-3C8661FA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97D-E538-454C-8E23-BA0C8AAC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7DC-AF40-44FB-8DF1-4AEB41FA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66E-024C-489F-A3FD-57E1E91D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49F93-FA08-4459-8439-C8D3D3A679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