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30992"/>
        <c:axId val="98721418"/>
      </c:barChart>
      <c:catAx>
        <c:axId val="64430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21418"/>
        <c:crosses val="autoZero"/>
        <c:auto val="1"/>
        <c:lblAlgn val="ctr"/>
        <c:lblOffset val="100"/>
        <c:noMultiLvlLbl val="0"/>
      </c:catAx>
      <c:valAx>
        <c:axId val="98721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30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DAC-4FB7-4C90-BAD6-7418BF25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8EE-E633-4605-B03E-5CF1042E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58C-EFDF-4909-ADAE-170EA30E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093-2D4C-40AD-B2FB-CC8E2FF8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2F0-642F-428A-B494-EBDE9CF4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ECA-5716-428F-A903-5B6EEF09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330-DD11-4E18-8F2A-1DAD2F09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B8BB-CDA3-472F-A424-C77D92F7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858-FA06-4E37-92F9-F03E0302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567-5808-4BDD-B58A-3B1CA4E0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7AC-73E5-449E-92C1-BD6D5954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ED3-BC27-4486-A2C6-B23F8058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281C8-3AFC-4888-BFDF-B2511CD4B2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