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30958"/>
        <c:axId val="50077750"/>
      </c:barChart>
      <c:catAx>
        <c:axId val="76430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77750"/>
        <c:crosses val="autoZero"/>
        <c:auto val="1"/>
        <c:lblAlgn val="ctr"/>
        <c:lblOffset val="100"/>
        <c:noMultiLvlLbl val="0"/>
      </c:catAx>
      <c:valAx>
        <c:axId val="50077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30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E6C-6D67-43F6-8994-8807F43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191-8C29-4118-86C2-72F49E5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A37-979E-4095-84F1-11B28C32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9D9-E3F6-4304-869F-D665679F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322-8367-4647-8C44-C5E3E315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652-EF9D-4670-B61A-CF4E5886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E5A-C7E6-48CF-B075-66D16B14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E58-B5C2-4C0E-883C-DD0A93E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0AC-E013-4251-9432-29E89A1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22F-A702-46D7-9F76-CBC62FD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390-D96D-48DB-81D0-787D232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602-FC98-44CC-BBD3-C50BE2C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68E72-A330-4A8D-BECF-950A4B4CF6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