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78081"/>
        <c:axId val="99849235"/>
      </c:barChart>
      <c:catAx>
        <c:axId val="707780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49235"/>
        <c:crosses val="autoZero"/>
        <c:auto val="1"/>
        <c:lblAlgn val="ctr"/>
        <c:lblOffset val="100"/>
        <c:noMultiLvlLbl val="0"/>
      </c:catAx>
      <c:valAx>
        <c:axId val="99849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780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9C0-0B31-4307-97A0-4EA91355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C6E6-C286-41F6-8AD8-052C7FF5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A319-051B-4872-9D42-43DE5BBD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E79B-3652-45BC-B383-5A4644E1A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7BF-84CE-4BEE-987F-E277C06D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2335-26C0-43A2-A6E5-AC7EDE30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DE8A-02FB-4402-8AE3-ABD989CBA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F5FD-1197-472D-B1B2-87145661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AC4-316C-4EC1-BB6D-37C88DEB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433C-7CBB-4845-B9B8-A72C3346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B31-2E73-49CF-8305-08E9B780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1B0A-333B-4523-AF3D-AFDDF013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8E7CC-51CB-4860-97E9-7B247DDE9E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