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70978"/>
        <c:axId val="19147518"/>
      </c:barChart>
      <c:catAx>
        <c:axId val="2087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47518"/>
        <c:crosses val="autoZero"/>
        <c:auto val="1"/>
        <c:lblAlgn val="ctr"/>
        <c:lblOffset val="100"/>
        <c:noMultiLvlLbl val="0"/>
      </c:catAx>
      <c:valAx>
        <c:axId val="19147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EB2-9586-4F1D-87B2-039383B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C7A-18A4-4C0E-BB62-1907E89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449-2BC5-44F9-8D1D-235C82A1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E0A-5A90-4430-81B6-7B25F638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C09-8E2F-4A9D-9B45-9A75C469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C2D-9B6F-42FA-989D-188BCE8C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DBD-CFCD-424E-8685-610C161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7BB-016A-4E25-BDC5-B548A339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0FD-BCFD-486B-B124-9F6C0C3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101-8135-4A10-A338-744266E9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32C-1C6C-4519-A314-E2BF1C3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617-D5BF-4C47-BC7E-62992FC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F7E61-78AC-45C4-A9CF-9E881DE757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