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96163"/>
        <c:axId val="22936076"/>
      </c:barChart>
      <c:catAx>
        <c:axId val="69961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936076"/>
        <c:crosses val="autoZero"/>
        <c:auto val="1"/>
        <c:lblAlgn val="ctr"/>
        <c:lblOffset val="100"/>
        <c:noMultiLvlLbl val="0"/>
      </c:catAx>
      <c:valAx>
        <c:axId val="229360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961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ABCE-C2B5-4AF4-A182-9CBA35CC6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DDF7-5CC7-4BDE-A3D7-A9BE854C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5427-A394-46CF-BC29-88EBCA7EB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587B-3609-4998-8DDD-28E569CF8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A63E-5BCE-4971-AE56-5C8197B2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C8E9-16C0-45A1-981E-171F99B2E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2BE1-8D63-4C8B-9044-AA41CD49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F97E-EC42-4AC7-8C02-A6CFE4B0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97DF-5E7B-4624-8688-2529D438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79BF-3451-4AEF-A9EF-27AE189F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5E0B-C003-402D-A0AC-CDBEDC8F7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88A3-FE3F-46B6-9B73-6B40B4573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5D7EF5-F403-499C-86B1-574CB7959F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