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07562"/>
        <c:axId val="44793497"/>
      </c:barChart>
      <c:catAx>
        <c:axId val="44707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93497"/>
        <c:crosses val="autoZero"/>
        <c:auto val="1"/>
        <c:lblAlgn val="ctr"/>
        <c:lblOffset val="100"/>
        <c:noMultiLvlLbl val="0"/>
      </c:catAx>
      <c:valAx>
        <c:axId val="44793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07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F2E-B7E4-4D22-8E29-0ADC0BDB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2FC-113B-4793-8685-B52C28A5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5FB-80C3-4F22-BCCB-85B3F9D5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ACB-51FB-4756-911F-FEB55668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15D-7396-404B-A4D2-B5C47CC6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F41-CA1C-4FDE-B837-B4034D8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0F2-6CEC-425D-B381-609BD7BF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E5E-5726-46AA-B898-A351482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1C4-3E81-48B8-8085-16DF52D0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BA2-F215-4FAE-A229-06D68BC0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006-B919-4069-B619-50FF3A43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7CA-97B6-4E3B-97BA-E4CDC57F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3EDE3-4CD1-4183-B8D2-29068DCD62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