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51881"/>
        <c:axId val="29438300"/>
      </c:barChart>
      <c:catAx>
        <c:axId val="16151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38300"/>
        <c:crosses val="autoZero"/>
        <c:auto val="1"/>
        <c:lblAlgn val="ctr"/>
        <c:lblOffset val="100"/>
        <c:noMultiLvlLbl val="0"/>
      </c:catAx>
      <c:valAx>
        <c:axId val="29438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51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351E-CB3D-430B-BC62-F10DB613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3A5-C6C8-4D0A-977F-7EAE4DA5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B68-CD4F-4EC4-A3AC-45F6FE8E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03C-849D-4FCA-8C4A-C39A178C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925A-9DFF-432B-865C-D7B43D17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042-9A8B-4530-88E1-CAF63B5F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A4A-CB24-4184-AD26-5CB43225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A95-1291-4F34-84D6-3CFD81C4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ABB-6D8E-4AB5-9D44-883000BB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BF8-C305-475B-8354-9285FDAB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EB5-4FD4-4E6F-B2E1-D6C9380F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B7C-6BE2-4DC1-82E2-098D2646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56835-400C-451C-9008-61FCF58479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