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31190"/>
        <c:axId val="96589891"/>
      </c:barChart>
      <c:catAx>
        <c:axId val="10311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589891"/>
        <c:crosses val="autoZero"/>
        <c:auto val="1"/>
        <c:lblAlgn val="ctr"/>
        <c:lblOffset val="100"/>
        <c:noMultiLvlLbl val="0"/>
      </c:catAx>
      <c:valAx>
        <c:axId val="965898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311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F6FC-A318-4068-861C-738A07A68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0AB7-03D7-49B4-849E-E297A30F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BE2E-87D0-4F1D-9709-FB6F58728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9FB3-F861-4242-9199-4579C5290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DBE8-1FAF-48B4-AC47-67CEA8CE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77CE-93C4-49F8-B7D6-BC881788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0B3C-4229-4427-842D-578E30B5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69F3-C49F-47E2-827C-F4FA9D96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CE73-3BF2-40AF-A3E7-5DD4C1B9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8A87-696C-46F7-ADBF-49F92187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A69E-80B0-4437-BFE8-7AE6C2E9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3431-5A38-40FD-BE2F-7CDB4F1B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5DCB33-7AFC-4EDA-AB69-DCC653BFA0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