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876418"/>
        <c:axId val="52359312"/>
      </c:barChart>
      <c:catAx>
        <c:axId val="798764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59312"/>
        <c:crosses val="autoZero"/>
        <c:auto val="1"/>
        <c:lblAlgn val="ctr"/>
        <c:lblOffset val="100"/>
        <c:noMultiLvlLbl val="0"/>
      </c:catAx>
      <c:valAx>
        <c:axId val="523593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764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1459-61B5-4C75-A039-46B3AF12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BA59-4EBF-4DD7-B957-76A23C99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70E3-4B59-463D-B82D-FA2FA6A6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CE20-226C-4372-8E15-00A1EE02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0256-45C8-401A-9E83-546223E5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9F72-931E-4E23-A7D3-34FE14DF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DC5C-E9DC-4E37-B676-B9099887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1EA8-A5FD-45BA-90F9-32E7A6E6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AA67-25F7-472C-861D-7BC9DB72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9CCF-8831-4D9A-B5F1-243BD5CC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01A7-8884-4146-B567-FFCDE8A0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35EB-AAF7-498D-8A6D-D833E543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777FB-F270-4FD1-914F-E170EA31B3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