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85268"/>
        <c:axId val="90935246"/>
      </c:barChart>
      <c:catAx>
        <c:axId val="741852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35246"/>
        <c:crosses val="autoZero"/>
        <c:auto val="1"/>
        <c:lblAlgn val="ctr"/>
        <c:lblOffset val="100"/>
        <c:noMultiLvlLbl val="0"/>
      </c:catAx>
      <c:valAx>
        <c:axId val="90935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852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D34-DD0A-432F-8938-EB06127D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33A-368F-45D7-80E9-15BAFE39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745-5433-41BE-939C-65166B31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B52-4B47-4B1E-BEBF-112EC719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AA8-07ED-4E08-A7F5-C674D38C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45E-FF8D-4B32-BC48-2E444071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A2B-40A9-48CF-AE94-353B394F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6D1-0AF3-42CC-BA29-54BC7095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A2D-3809-44E0-8EF7-655C8B44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95A-096A-443B-ADDF-7A2B7170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088-8F0F-4EBF-95F3-283996E9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AEF-E77F-4BB4-85CF-615FACEA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02C32-504B-46D2-ACCE-51490CECFF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