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32292"/>
        <c:axId val="35320297"/>
      </c:barChart>
      <c:catAx>
        <c:axId val="83532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20297"/>
        <c:crosses val="autoZero"/>
        <c:auto val="1"/>
        <c:lblAlgn val="ctr"/>
        <c:lblOffset val="100"/>
        <c:noMultiLvlLbl val="0"/>
      </c:catAx>
      <c:valAx>
        <c:axId val="35320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32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4A3-A271-4234-89CA-75E1BE82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4FF-F0A9-4F9C-9119-C129D432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672-2594-4E1F-A457-B1D26773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4BE-2C46-4337-96B7-6EAE447F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0B0-F81B-4DB4-A6EA-808120E1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13E-95E8-4157-91A6-2EE765B9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1F2-A7B3-40C6-AF2D-27E35953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E7B-EC61-41D4-9B01-90457E0F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2B7-0B8E-4D49-92DB-C9C3A862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EB4-693A-466F-940E-6E89415E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36E-4834-42BD-9886-A150F6A7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793-EE30-4D55-BE4A-405329F0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6D0FA-590B-410A-8C22-0C0E7D2326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