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36614"/>
        <c:axId val="99110926"/>
      </c:barChart>
      <c:catAx>
        <c:axId val="95836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10926"/>
        <c:crosses val="autoZero"/>
        <c:auto val="1"/>
        <c:lblAlgn val="ctr"/>
        <c:lblOffset val="100"/>
        <c:noMultiLvlLbl val="0"/>
      </c:catAx>
      <c:valAx>
        <c:axId val="99110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36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D69-4C06-47EA-9391-4775D7E0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F34-1467-4FFC-8ABE-A75EB5CA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DD2-BB52-4C98-A7CB-819D232D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94C-2688-4DCB-A63C-7CB7E00E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CE2-121F-4145-9BB5-42CAB809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534-D09B-4C47-98FD-9C60197A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25E-9D7E-4CCA-A8F9-7FAB3DD0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E23-2341-4445-A86C-BF328E28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271-1805-4101-B181-1F84870E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0DA-3587-4FA8-90C5-925EC6E6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E41-4B87-48DD-A28A-7D7E3C73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981-CB29-402A-91A5-9E9977F5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80B0E-6BFC-4808-ABFA-E57C01C6D2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