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78034"/>
        <c:axId val="18155203"/>
      </c:barChart>
      <c:catAx>
        <c:axId val="91478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55203"/>
        <c:crosses val="autoZero"/>
        <c:auto val="1"/>
        <c:lblAlgn val="ctr"/>
        <c:lblOffset val="100"/>
        <c:noMultiLvlLbl val="0"/>
      </c:catAx>
      <c:valAx>
        <c:axId val="18155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78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193-873C-4703-9B04-558092B6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E5F-9E01-4707-9125-69860828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33B-4691-423F-B57F-54D11280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A5F-0F54-474B-AA32-0FBFACCD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0B4-43C2-493C-80A0-53969284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6DB-78AA-4FAE-B33D-72AC2438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2CE-BD7C-48E1-9AF3-C8FDD071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2DD-1967-49F6-8B15-8B8AD2AA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833-E427-429D-9B5D-132DBBAE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CCA-EB2D-4895-AB5B-1F5E431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392-AAD0-4653-9EE5-5A00D22D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3EB-75EC-4BA0-887D-EF2FFD73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8715D-23AF-422F-8565-2B362C663B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