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54570"/>
        <c:axId val="11271265"/>
      </c:barChart>
      <c:catAx>
        <c:axId val="71054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71265"/>
        <c:crosses val="autoZero"/>
        <c:auto val="1"/>
        <c:lblAlgn val="ctr"/>
        <c:lblOffset val="100"/>
        <c:noMultiLvlLbl val="0"/>
      </c:catAx>
      <c:valAx>
        <c:axId val="11271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54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A9C-DC72-476F-9CB9-F1A01EEC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1A4C-2607-4033-B8C3-0C04FB91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F53-19AB-493B-8C28-84F2EA39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893-63CB-4BF9-B08B-B66ED2D7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365-D677-4688-9381-49319BFE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A51-6DA6-412C-B1FB-6AF64F19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7B3-F119-49F2-97DC-D6CCE3C6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057-EEDE-4E05-A9DE-41EFAB00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A5B-FBD6-46C8-8266-DE1F718B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5FE-849D-4B3F-BDCF-3923F099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9B7-8F86-4B84-90AE-5EFE5697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C006-201D-421E-8FB8-B72D5D73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9CA96-50B8-4C63-9B44-45DAF29E06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