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47092"/>
        <c:axId val="74764050"/>
      </c:barChart>
      <c:catAx>
        <c:axId val="57347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64050"/>
        <c:crosses val="autoZero"/>
        <c:auto val="1"/>
        <c:lblAlgn val="ctr"/>
        <c:lblOffset val="100"/>
        <c:noMultiLvlLbl val="0"/>
      </c:catAx>
      <c:valAx>
        <c:axId val="74764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47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A25-1F53-41F5-A51F-C165C27E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595-F232-49B8-B1C3-1934E9ED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A45-D736-4A89-AC09-EC57FA44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390-644E-4035-BC37-6DD9E296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F94-2309-4F3C-B99F-B9EAFD2C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743-B5A9-49C9-B485-89006A86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93E-3DA6-4E68-A9C8-BB3EDA9F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9A8-E02B-4618-BA9A-4874D805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1DE-649F-4A62-A845-780D35F3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539-8447-467E-B460-2AE6097D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277-C130-4A61-86F1-18877EB9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19D-C5A0-425B-9543-F1514481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B2A52-9B7E-40AE-BEAD-66CF1549BD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