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21589"/>
        <c:axId val="79001816"/>
      </c:barChart>
      <c:catAx>
        <c:axId val="16621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01816"/>
        <c:crosses val="autoZero"/>
        <c:auto val="1"/>
        <c:lblAlgn val="ctr"/>
        <c:lblOffset val="100"/>
        <c:noMultiLvlLbl val="0"/>
      </c:catAx>
      <c:valAx>
        <c:axId val="79001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21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6EE-2FF0-46AD-948A-D7A9DFDB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8F2-5516-4D2D-B967-849BA73D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BB9-E446-4245-9DFD-55A55A37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ED4-1226-4137-84C5-AD3959BF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976-9CC1-4F22-82A4-F4D4E95B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A5D-F6CE-4A36-8C43-A7644F4C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ADF-ED12-453A-8C50-D3CAC0A6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91A-6404-4B81-A7AC-37348B61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0AC-4F4B-42B3-AAD9-BAA12BDA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9E3-B81C-436F-A2EA-15F84FFA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9CB-3A07-40E0-B136-F14F64C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F75-A555-4E7F-902E-1052108E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488A6-9E38-4835-B8BE-F817C6BB22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