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34825"/>
        <c:axId val="48928594"/>
      </c:barChart>
      <c:catAx>
        <c:axId val="51134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28594"/>
        <c:crosses val="autoZero"/>
        <c:auto val="1"/>
        <c:lblAlgn val="ctr"/>
        <c:lblOffset val="100"/>
        <c:noMultiLvlLbl val="0"/>
      </c:catAx>
      <c:valAx>
        <c:axId val="489285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34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7A7-6F35-440E-9A1D-EE7679F8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19E-42D0-44F7-BF1C-9F278BCF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D26-3A38-44CC-99D7-1C874AF1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5A4-D8D9-42CF-A001-7153D708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293-BA4F-48FD-BBF2-BB1A2389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8E7-E9D5-4CA4-954C-49B4C5BA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3A0-C355-41F7-9735-06DEEEF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11CA-67E0-4E5D-B061-65B83FEA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EF7-6DCE-4D03-B86F-BB4312E0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260-31E1-42EC-A3BD-2CAC2B9C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AB4-52ED-4DA0-91AF-3F428AA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B1D-5E00-42C4-8F3A-E3FAC74C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1155F-7463-4A41-99CC-1402226A78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