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85804"/>
        <c:axId val="64493849"/>
      </c:barChart>
      <c:catAx>
        <c:axId val="24385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93849"/>
        <c:crosses val="autoZero"/>
        <c:auto val="1"/>
        <c:lblAlgn val="ctr"/>
        <c:lblOffset val="100"/>
        <c:noMultiLvlLbl val="0"/>
      </c:catAx>
      <c:valAx>
        <c:axId val="64493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85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E4D-0760-464A-86E7-02632D83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6F9-203E-4619-B3E1-2750BF75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59E-1FC0-4098-B9DA-E457692A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4ED-692A-4EFD-8722-AC66F304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ADF-F9E2-4C50-A26C-F5772AB6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F2A-E417-4447-93A4-351E388A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820-2238-4A09-A41A-AFE71F4E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08C-2785-4CF3-82B1-918BACDC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A28-786A-4F07-86D0-D1A706F7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435-F2C0-4AC9-95C2-1055AD1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405-6A7D-4E76-8AEA-86DC2AFF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C74-3D6C-4774-94D2-4942E6D6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85F02-7263-494C-8885-63F071FA56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