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17000"/>
        <c:axId val="48554376"/>
      </c:barChart>
      <c:catAx>
        <c:axId val="696170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54376"/>
        <c:crosses val="autoZero"/>
        <c:auto val="1"/>
        <c:lblAlgn val="ctr"/>
        <c:lblOffset val="100"/>
        <c:noMultiLvlLbl val="0"/>
      </c:catAx>
      <c:valAx>
        <c:axId val="485543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170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1668-46A1-46C3-BDE4-D14E04D3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D994-2722-4BC4-918F-B387E73B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5AA9-8641-4366-A181-312A71F0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E1C9-51DD-4BA4-B02A-91838160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EFB-905B-4107-97D8-30489AE1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5684-2249-4ADB-AEF3-7EBE84B0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93CB-CA54-40AA-89F7-92FE5101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5523-87F4-4913-8759-E5705F5F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4A04-201A-4E2E-A2AC-E07234E3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CC75-6A14-4F0D-8B36-94F13F98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39EA-8914-45CE-8043-C1FA157F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02F5-C9CE-43A0-8EA4-2D09551F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8B62B-0571-44CD-86DC-94A7D200DF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