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23208"/>
        <c:axId val="26169212"/>
      </c:barChart>
      <c:catAx>
        <c:axId val="32723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69212"/>
        <c:crosses val="autoZero"/>
        <c:auto val="1"/>
        <c:lblAlgn val="ctr"/>
        <c:lblOffset val="100"/>
        <c:noMultiLvlLbl val="0"/>
      </c:catAx>
      <c:valAx>
        <c:axId val="26169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23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617-3C0A-48AE-A234-58745EE4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E13-5A74-459A-A5D4-B31E151C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502-84B6-40C1-A703-D3B5009A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4D0-D5F9-482F-9A08-A33C47C6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F0A-4306-41D8-90C3-D1CD671C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1C7-3507-4902-B825-6F55F93F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5F4-D485-46C5-A70D-F937B39A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DDE-7CC2-4383-AE4E-69D6E8EE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189-69EB-4D91-8E5B-2467D384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9AB-9037-49D9-8263-6D644C98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203-8976-4C15-9886-82AA66DC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FE2-D5AE-4535-AE70-0FC24FE4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58263-36A4-4F64-9BFC-855B346C0A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