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42263"/>
        <c:axId val="62283541"/>
      </c:barChart>
      <c:catAx>
        <c:axId val="21842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3541"/>
        <c:crosses val="autoZero"/>
        <c:auto val="1"/>
        <c:lblAlgn val="ctr"/>
        <c:lblOffset val="100"/>
        <c:noMultiLvlLbl val="0"/>
      </c:catAx>
      <c:valAx>
        <c:axId val="62283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2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429-57C2-46D3-A923-4A5C6ABC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BFB-C7B0-464B-9395-5E9CAD9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F2C-EC8E-420C-B580-BA1847CE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53A-DC21-4D31-885D-07C789A8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744-D4F3-4D59-BEF1-A82AFB3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EC6-12FF-453D-A16D-733CAEB7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070-D22C-443B-AF6E-D04B5F83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233-3185-48A6-9887-68A1FC3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634-A79B-4F01-982A-D52C8A5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4A5-EA9B-4B32-BA58-88C869E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EFA-BC31-4094-87DD-034990D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481-298F-42F5-870C-A9EC09A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CA800-BDA4-46DA-9EC8-574A684E8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