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2483"/>
        <c:axId val="75273406"/>
      </c:barChart>
      <c:catAx>
        <c:axId val="8832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73406"/>
        <c:crosses val="autoZero"/>
        <c:auto val="1"/>
        <c:lblAlgn val="ctr"/>
        <c:lblOffset val="100"/>
        <c:noMultiLvlLbl val="0"/>
      </c:catAx>
      <c:valAx>
        <c:axId val="75273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2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3B4-4E24-42AE-97B1-8F14AA1D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FE2-D008-4269-A16F-1B4EF76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8BB-840D-4A56-A8E2-2E1EA2C5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8AC-9F3B-4E5C-BABD-4D33E147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AE6-2748-433A-9173-9BB3ED46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ED8-9AE1-4A2A-A0CC-7DA24CF2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D89-908A-4ECF-96D4-B5550139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57B-8FCD-413B-8C32-CED1A28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08E-4A44-4024-879C-013D283B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B4F-A0F3-493E-B307-B368756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F90-F42D-47B9-B235-0EE35112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8C3-7536-43A0-AC2B-75D9982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8D35E-2F08-4537-984C-C5D41ADB80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