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27679"/>
        <c:axId val="23811481"/>
      </c:barChart>
      <c:catAx>
        <c:axId val="87727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11481"/>
        <c:crosses val="autoZero"/>
        <c:auto val="1"/>
        <c:lblAlgn val="ctr"/>
        <c:lblOffset val="100"/>
        <c:noMultiLvlLbl val="0"/>
      </c:catAx>
      <c:valAx>
        <c:axId val="23811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27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19C-F1F2-453A-8333-E0E74491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9AD-A338-47EC-BC6D-A0A17365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3DF-A2C2-436D-8256-E4D04138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31A2-585D-4A82-944D-27F7F48D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9DF-5F7F-4644-A1FA-23FE6EE4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5FF-BD96-4A1C-8FFE-415A8DC1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CBB-6E4B-44BB-93F2-5597F140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711-68D6-4745-AAA8-BEDF3CD1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5DA-ECE7-4038-9E28-BE274EFD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8A6-2554-44CC-9614-CF344F6A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97F-9CDB-4D5B-B27C-1E57F24A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835-1B2A-40B3-AC50-2FA37A5D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934FD-8DD1-46E8-B591-11B483EAA0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