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15292"/>
        <c:axId val="34939325"/>
      </c:barChart>
      <c:catAx>
        <c:axId val="85215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39325"/>
        <c:crosses val="autoZero"/>
        <c:auto val="1"/>
        <c:lblAlgn val="ctr"/>
        <c:lblOffset val="100"/>
        <c:noMultiLvlLbl val="0"/>
      </c:catAx>
      <c:valAx>
        <c:axId val="34939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15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A2E-A950-45B4-BBF1-E63778C8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9BD-D8FB-4F5C-9A73-F84F22AC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6FB-E3E4-4E69-AA79-5CE3D2DF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534-59E4-42F8-9EBE-18A8D2F5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5D7-83B1-45B1-A054-D8EA4571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6D5-E459-423C-8273-2B65DB9A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2B5-EF83-43DD-9F69-243AF05A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866-6FC4-4CF1-8D07-8EF47B2C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2A3-0CA4-4057-A7F5-C853F97D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017-9946-47DC-B5A5-73375ADA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6E9-9FBD-4AF0-8D79-5F37899F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038-4A47-4270-B118-20D009CF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404E5-49EA-4F4F-9A08-2883AFEEDC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