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59136"/>
        <c:axId val="21669333"/>
      </c:barChart>
      <c:catAx>
        <c:axId val="4175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9333"/>
        <c:crosses val="autoZero"/>
        <c:auto val="1"/>
        <c:lblAlgn val="ctr"/>
        <c:lblOffset val="100"/>
        <c:noMultiLvlLbl val="0"/>
      </c:catAx>
      <c:valAx>
        <c:axId val="21669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5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423-195A-40C8-A448-97D8DB03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128-4CAC-4C6B-BFDB-B3B26DD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D608-41C6-4A11-A6FB-B0A70073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9B6-E520-46E2-A4F6-7C7079E7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208-9DB0-43C1-B4FF-DE602360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34E-99FD-48E6-94AA-C7C73705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375-CA39-4BBB-8D1B-2D744568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99D-E6D7-42D8-AE60-A9F3EE31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73A-A1C3-44E7-BA42-E403217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256-AA04-4322-8E4C-CFD679B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75B-2741-436E-91AD-1968A58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547-3B33-456F-B11F-4705819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818F5-C4FC-4EC4-80FE-9ACA0DA3D8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