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26266"/>
        <c:axId val="87215379"/>
      </c:barChart>
      <c:catAx>
        <c:axId val="42026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15379"/>
        <c:crosses val="autoZero"/>
        <c:auto val="1"/>
        <c:lblAlgn val="ctr"/>
        <c:lblOffset val="100"/>
        <c:noMultiLvlLbl val="0"/>
      </c:catAx>
      <c:valAx>
        <c:axId val="87215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26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919-C538-4E1F-B8A6-90D2E9D5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56E-25CE-4743-AD55-99BB0E91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735-EE87-41A7-B1B9-BDAF9395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D9F-BC74-41B9-9F59-16702BBA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8BA-A74F-43A8-9EF6-352D3A87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459-632F-4F54-B59E-5F6EA16E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07A-C403-4B53-AADB-B995DE3F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E3A-4EB0-4D7B-9D80-CEA2DBDE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5E3-02A0-4D62-82F1-839EC38D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CA5-8537-4CBA-9478-C62FD82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351-0DFA-418F-B372-58836A5C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3DE-3669-43BA-85A6-601CFB0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A8B4C-73F3-4951-8DE0-9BEF2C0CD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