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33153"/>
        <c:axId val="90758807"/>
      </c:barChart>
      <c:catAx>
        <c:axId val="37233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8807"/>
        <c:crosses val="autoZero"/>
        <c:auto val="1"/>
        <c:lblAlgn val="ctr"/>
        <c:lblOffset val="100"/>
        <c:noMultiLvlLbl val="0"/>
      </c:catAx>
      <c:valAx>
        <c:axId val="90758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33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D1F-098E-4D27-90F2-A1AB26B6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7EA-4F5B-4642-8CEF-0A49CE6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DCF-1D5A-4C31-B94D-209B82F4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4C3-0E1F-44D6-B464-107422FC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013-A02B-4747-9ACB-7D64671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1F2-E8EB-41F6-92F2-28D6F2F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A8A-15D8-4DCB-BDE2-22FDDF5F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BB7-3504-48F5-8865-CBF9609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539-10C4-4D07-8F5D-9F6297AF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ED4-C2A2-4BCE-B83E-7BB0CCD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603-59ED-423D-BE4B-6E0A6DE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799-B995-419F-8731-C5E7175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8716A-FA47-415E-B1EC-BC3D1A839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