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0205"/>
        <c:axId val="94442637"/>
      </c:barChart>
      <c:catAx>
        <c:axId val="5810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42637"/>
        <c:crosses val="autoZero"/>
        <c:auto val="1"/>
        <c:lblAlgn val="ctr"/>
        <c:lblOffset val="100"/>
        <c:noMultiLvlLbl val="0"/>
      </c:catAx>
      <c:valAx>
        <c:axId val="94442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0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653-8668-4FA3-A0C4-EF591DED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D01-F53B-488B-8B6B-C2AADB04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6AC-CF29-41D0-922D-EF297923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E0C-45F3-4ABA-AD81-815017AB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26E-500B-480B-8EAF-4C06F305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0C5-5DF2-4359-9BD9-7DA77FF7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7C3-F4A6-4F5B-8C64-7CD66A37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22D-AABB-41C2-93D9-EF97A6BF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B45-995B-4927-8615-C34CD6C0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D62-4CD2-4F1B-ADE1-3BF319F4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E2B-3F38-48AB-80C4-436B473A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050-194B-4797-B77C-03FDFA69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2C211-66D8-481B-8369-764DEB064B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