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91201"/>
        <c:axId val="68423273"/>
      </c:barChart>
      <c:catAx>
        <c:axId val="71591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23273"/>
        <c:crosses val="autoZero"/>
        <c:auto val="1"/>
        <c:lblAlgn val="ctr"/>
        <c:lblOffset val="100"/>
        <c:noMultiLvlLbl val="0"/>
      </c:catAx>
      <c:valAx>
        <c:axId val="68423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91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129-0927-4BB0-92BC-F4BC9C47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224-50AE-4BE6-B4FD-C459AA13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D10-4E1F-4E6E-85C2-494C88CC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68A-8AFD-4765-95EF-E1DDA23F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B38-A718-4F90-BD64-C394C47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EF3-D0E5-42CD-AD60-E0947CAA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5D6-AF16-407C-920C-660B81CD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B7A-D960-432E-86E5-ACCD9C5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5F7-3C1E-442F-8B38-5EA85E4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A34-DFF4-4BD2-9ED7-D65D4A3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874-3A7C-4413-9393-20452C5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07E-D62C-411B-92FF-6660E8CD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6A44B-82A7-4170-83C8-1F435B592B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