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9324"/>
        <c:axId val="68490891"/>
      </c:barChart>
      <c:catAx>
        <c:axId val="2439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0891"/>
        <c:crosses val="autoZero"/>
        <c:auto val="1"/>
        <c:lblAlgn val="ctr"/>
        <c:lblOffset val="100"/>
        <c:noMultiLvlLbl val="0"/>
      </c:catAx>
      <c:valAx>
        <c:axId val="68490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9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86C-1596-4753-A13F-4D479F3A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E49-D023-4311-9CE4-A6EBF84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BE9-05D6-4BFF-AF86-70E293F2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ED3-CDC1-49A4-9A55-FFE5D03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F4F-92CA-4B00-8635-AD4CBC3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4C0-1286-4CEE-A06F-6CBC1445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A47-0B97-4A6C-8379-37912930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129-B8B3-49D5-AD32-E0999711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E25-A785-4C37-9E1B-0ECECCAE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B1F-FE94-441B-A8C2-C765109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D2E-62A0-4FF8-BD4C-5CE809B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34D-7CCF-4A07-BEAF-34FA4B3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10090-0135-4BF0-8687-F14112515E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