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43729"/>
        <c:axId val="17677805"/>
      </c:barChart>
      <c:catAx>
        <c:axId val="46143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77805"/>
        <c:crosses val="autoZero"/>
        <c:auto val="1"/>
        <c:lblAlgn val="ctr"/>
        <c:lblOffset val="100"/>
        <c:noMultiLvlLbl val="0"/>
      </c:catAx>
      <c:valAx>
        <c:axId val="17677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43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4AC3-CE43-467A-8170-4CCE2F7F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E18-35D1-4408-9A87-AB2BC781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0F26-2059-4969-9DE9-77016CDD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BA0D-E93E-481C-BC5F-272D1C9F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C5A-45CA-4FA5-80B5-468ECD60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734-A47D-4505-97CB-B260AEB5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675-ECB1-41EC-8DA2-957C9CC3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A7A-023A-467E-A8C1-4F53E6B0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38A-DD13-4097-BEE6-8935F3C2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1A9-C1BB-4EDD-B7DB-4C0FDCA5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6BE-A79B-47F2-95E1-7D4A5620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1246-FF54-4F5D-834D-27AD7B23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FD870-CB4B-4BC1-B43F-236CC8E7A7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