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66325"/>
        <c:axId val="37266546"/>
      </c:barChart>
      <c:catAx>
        <c:axId val="89166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66546"/>
        <c:crosses val="autoZero"/>
        <c:auto val="1"/>
        <c:lblAlgn val="ctr"/>
        <c:lblOffset val="100"/>
        <c:noMultiLvlLbl val="0"/>
      </c:catAx>
      <c:valAx>
        <c:axId val="37266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66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430-96AF-4BC9-A2FC-02A302EF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7B8-CE2E-4E1D-B8BA-A5004CF3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971-AB7D-4305-8C3C-FCA3AF27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E0B-8B71-4C56-8939-90EB2764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DF5-802A-4B89-ABFA-2421C999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F7D-6EAC-4AE5-87DB-DD13FDE5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EFC-9980-45E3-B8AD-55443485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C62-3B5F-410E-8940-ECA8ECCD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7A1-600D-430E-B89C-E4B39B95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608-0D17-401A-9A4B-5627CD7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6B5-64BA-47FF-BDA5-C592583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780-E8FC-4010-B45A-16EF91AD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339C2-AA1E-495C-9429-02C7604D4A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