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04796"/>
        <c:axId val="97301542"/>
      </c:barChart>
      <c:catAx>
        <c:axId val="20004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1542"/>
        <c:crosses val="autoZero"/>
        <c:auto val="1"/>
        <c:lblAlgn val="ctr"/>
        <c:lblOffset val="100"/>
        <c:noMultiLvlLbl val="0"/>
      </c:catAx>
      <c:valAx>
        <c:axId val="97301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04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7CF-2925-4CC6-9308-C6BF7DDD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CFD-B529-4284-9BF1-69BFEE6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90D-E979-46CB-B1B5-480D614B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D75-93C8-405D-9997-21182F55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B2F-CC7A-4D23-B9D9-54740692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0AF-4D07-4BFB-8A79-A142E63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D37-E49A-41A5-A109-2FE02039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9FA-CB31-4777-9504-5827558D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998-2553-4336-8120-B3A92672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5E9-F092-4C09-8661-DAAAB92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BFC-CFB7-4C96-9FE3-7545852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B21-7C09-41DA-8EF7-1454268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E1D3A-1A1B-47A9-A4B4-1B061CE2B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