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27614"/>
        <c:axId val="38149347"/>
      </c:barChart>
      <c:catAx>
        <c:axId val="42227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9347"/>
        <c:crosses val="autoZero"/>
        <c:auto val="1"/>
        <c:lblAlgn val="ctr"/>
        <c:lblOffset val="100"/>
        <c:noMultiLvlLbl val="0"/>
      </c:catAx>
      <c:valAx>
        <c:axId val="38149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27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035-EAE8-45D4-BD28-391739B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81F-6A00-4AA0-BE50-10C9067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CBF-2234-440E-8AEB-7501F5B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0DA-6A04-4B13-B826-1FA108C6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E75-8E04-4E54-8248-209DFE8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F54-B6C4-476F-925B-2220EA7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B86-3D25-480E-B6AA-FB3494A6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4C1-6E56-4C7E-989F-488ABCE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28-9278-4E1B-9A61-67129F9B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860-6A4E-46E0-BF4A-4C63D5B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60F-670E-4F82-BB17-BB686F36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155-B508-409D-A2AE-15CA84B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4F055-E802-48E6-A7FB-8187C54F2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