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45303"/>
        <c:axId val="21353143"/>
      </c:barChart>
      <c:catAx>
        <c:axId val="52745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53143"/>
        <c:crosses val="autoZero"/>
        <c:auto val="1"/>
        <c:lblAlgn val="ctr"/>
        <c:lblOffset val="100"/>
        <c:noMultiLvlLbl val="0"/>
      </c:catAx>
      <c:valAx>
        <c:axId val="21353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45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336-067C-4964-9E20-23D76F55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78B-DDB8-4259-B8A8-6AE94935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213-A91E-4655-A4A8-441A9A5E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39C-1ABD-49EB-9278-1A51AE09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211-4783-4639-B6BC-9AA836F7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246-4EBF-4FCC-A616-8D2CAB98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8F4-592C-4197-851C-E80E31AA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680-51C6-4108-8560-5420DF71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E1E-DC18-46F3-B190-1447E0B7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C29-7CA3-4FCC-860C-F822C300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2A8-6AB7-42E7-9220-CFCA056C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323-586D-42D4-BEEE-BD77F42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E9042-3E7F-4431-BEB9-1E7C823491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