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76004"/>
        <c:axId val="19872227"/>
      </c:barChart>
      <c:catAx>
        <c:axId val="26676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72227"/>
        <c:crosses val="autoZero"/>
        <c:auto val="1"/>
        <c:lblAlgn val="ctr"/>
        <c:lblOffset val="100"/>
        <c:noMultiLvlLbl val="0"/>
      </c:catAx>
      <c:valAx>
        <c:axId val="19872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76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DC1-C6EF-4882-8309-2E3F9DD1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D65-FF53-4652-95E3-78CCA379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742-27F1-4160-9281-52B1669D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61C-4172-4281-BF58-C74CF179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6F5-4FA5-4564-9F6C-0200AAAF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0B0-3B41-4A02-8479-390BC406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E48-DE69-4403-8316-E354839E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570-4E17-44EF-AFFD-E4147070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542-5E59-4772-B962-3F453A4A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5B8-0AC1-478D-AD7F-2053EAD8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5FB-3D7E-47DC-9FA6-E9A65231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05D-FAA4-4B75-B9BD-C134B5F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FEAA1-53DF-4F6E-A0EC-0FE0045310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