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877706"/>
        <c:axId val="81038966"/>
      </c:barChart>
      <c:catAx>
        <c:axId val="378777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038966"/>
        <c:crosses val="autoZero"/>
        <c:auto val="1"/>
        <c:lblAlgn val="ctr"/>
        <c:lblOffset val="100"/>
        <c:noMultiLvlLbl val="0"/>
      </c:catAx>
      <c:valAx>
        <c:axId val="810389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8777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0EC0-DF6F-48F5-9EB0-0FA8FF03F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39C6-A3E0-4CA2-81B1-99A6F4885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AE96-178E-4690-88B5-4D0A049D7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B636-FF7E-47B7-9CF8-C15EEFF9F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62DB-26A1-4AB8-A8D4-CCDC00EE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BBB0-1D0D-46EB-8B0D-C08B1E6C7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469C-277F-4B9F-8D3B-BDC1C07D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D5DE-4A39-4824-A231-281712FC2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DE01-8588-4C8E-84D1-DA8D0AE8C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99CC-CEDD-430F-92E6-BA38D0AB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2470-34E0-4A58-ACB4-6D86F2B6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4A76-B906-4F7F-81F9-04F8DDF7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A0D4E4-D9F2-4CB7-93ED-91E54E1498C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