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52346"/>
        <c:axId val="38535402"/>
      </c:barChart>
      <c:catAx>
        <c:axId val="23252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35402"/>
        <c:crosses val="autoZero"/>
        <c:auto val="1"/>
        <c:lblAlgn val="ctr"/>
        <c:lblOffset val="100"/>
        <c:noMultiLvlLbl val="0"/>
      </c:catAx>
      <c:valAx>
        <c:axId val="38535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52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7D2-FBA2-4016-8E0E-87427D4A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86A-9F19-42D4-8D92-92356F7D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25D-565D-4C76-BE15-B37B4864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D143-6D1C-4BFB-B7EB-5A471B0B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6D1-8C2B-4CBD-B712-010AE238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69A-9D06-494D-A320-37BC04DD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19F-3FAF-4728-9A78-99135FB7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F77-2651-4EE1-8DC3-41D9969D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A0F-8720-45F7-B08C-73F3AD87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FA4-7F6A-4F68-B91F-9453C5C8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294-0D1F-4AF1-833E-DD4C4B38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E1D-926B-4FE2-A9DD-6FD83812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55EB5-C50B-433A-AA85-A5ED7459EB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