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56528"/>
        <c:axId val="46443993"/>
      </c:barChart>
      <c:catAx>
        <c:axId val="72456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43993"/>
        <c:crosses val="autoZero"/>
        <c:auto val="1"/>
        <c:lblAlgn val="ctr"/>
        <c:lblOffset val="100"/>
        <c:noMultiLvlLbl val="0"/>
      </c:catAx>
      <c:valAx>
        <c:axId val="46443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56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8E5-E2DE-4DD7-B16D-A07463C2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FC1-5A9A-4E73-AF83-753A6A1F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071-0C4C-4652-8C12-70AE0861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2D2-6944-4811-9F89-966F9D39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787-0D9B-4F16-88BD-2525C11B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173-31A5-4086-B434-35E24D2B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DC4-50EF-4A7E-9FB2-F088F350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6DC-D33A-4CC2-92AB-B8348639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B9B-3649-4951-B330-291E8BB7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45E-35AD-434E-894B-E28C5FCB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BAF-BED4-44E8-A01D-C7861202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D68-8F47-4C65-9791-1246DAF4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38BE8-98CD-40C2-9326-A1763EBFE0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