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91965"/>
        <c:axId val="76042786"/>
      </c:barChart>
      <c:catAx>
        <c:axId val="33791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42786"/>
        <c:crosses val="autoZero"/>
        <c:auto val="1"/>
        <c:lblAlgn val="ctr"/>
        <c:lblOffset val="100"/>
        <c:noMultiLvlLbl val="0"/>
      </c:catAx>
      <c:valAx>
        <c:axId val="76042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91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2E2-11DE-4FBC-8074-AF357578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B3F-3616-40C5-BB54-50415EAE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CBA-627C-4E77-A23E-1D8C1900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DE6-3D32-49C3-B03C-E749E461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31A-C040-424A-893C-ADD25D57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090-2A57-4940-A6EF-FED71D52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948-F35D-47FD-BE8B-FBC3131C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E36-4B68-4E60-AEFB-5F55C414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0D2-3131-4EDE-B787-C286191E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247-4004-40B2-A2C8-292C23A1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7B4-0507-49A0-881A-6E19FA64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82E-F5AE-46FD-AD10-4F6E9E56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F464D-1577-4D0C-8C63-A0E56DD443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