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85306"/>
        <c:axId val="63668771"/>
      </c:barChart>
      <c:catAx>
        <c:axId val="87985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68771"/>
        <c:crosses val="autoZero"/>
        <c:auto val="1"/>
        <c:lblAlgn val="ctr"/>
        <c:lblOffset val="100"/>
        <c:noMultiLvlLbl val="0"/>
      </c:catAx>
      <c:valAx>
        <c:axId val="63668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85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8CF-AE3E-44AD-A2F2-D7ECC67B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271-4841-4961-A30E-D06C19FE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4E0-CE75-4099-B38F-00463860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25A-AC77-4474-8DA1-B8657A66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DBA-BF99-434A-81F1-C73AF419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01E-0517-491D-B0BD-CF59408F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6C1-32E4-4C0D-9CD3-223A6E4B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865-D873-4B80-849E-BA27AF9B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C47-E500-47FC-A022-F7FF1CAE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00A-A7CE-4EF2-9333-F37B160F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121-3279-4C55-B1D6-EA97127F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910-DA50-4B56-9BDD-5C50964A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3974A-4312-4C41-9704-63405E3EC3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