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0916"/>
        <c:axId val="69270524"/>
      </c:barChart>
      <c:catAx>
        <c:axId val="1330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70524"/>
        <c:crosses val="autoZero"/>
        <c:auto val="1"/>
        <c:lblAlgn val="ctr"/>
        <c:lblOffset val="100"/>
        <c:noMultiLvlLbl val="0"/>
      </c:catAx>
      <c:valAx>
        <c:axId val="69270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0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17F-FFA3-4556-B2BD-BC66A44F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61A-8EDA-4C05-901D-642B9334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AE0-78CA-4F66-ABCE-A8792578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D8A-BED1-4B9A-92EA-C1F06C49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309-A60E-46E4-AE83-52DE02E9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389-F071-406F-81E4-4168DC82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450-E574-421C-BFDE-3C6ACE64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E96-89F8-47F6-BFF2-94358AFE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9F1-D526-4993-A4FB-B55D948C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3C4-8644-43AB-B8F5-7017B4D5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A6D-D65F-4027-BCBC-D92DF44D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B17-D875-414E-A7C6-2C3DE330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494C3-393D-416B-89A7-4A34E09740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