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22945"/>
        <c:axId val="79108048"/>
      </c:barChart>
      <c:catAx>
        <c:axId val="93622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08048"/>
        <c:crosses val="autoZero"/>
        <c:auto val="1"/>
        <c:lblAlgn val="ctr"/>
        <c:lblOffset val="100"/>
        <c:noMultiLvlLbl val="0"/>
      </c:catAx>
      <c:valAx>
        <c:axId val="79108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22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4B3-EBB5-4527-8685-B148DD8F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478-94CF-455D-8924-7690901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E1D-B86F-41EC-AF35-F4BAE659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9B4-D2FE-4AB9-990B-9E033D6E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837-5283-494A-95D1-1B056466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409-C4C5-4004-B559-42CF6D12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CE5-6AFF-4A7C-88BC-598774D9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EEA-D5AB-4AB8-A12A-A846EE8D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889-32B0-4034-AF8E-0DBEB258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585-BEFB-4E88-A995-447DD97A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F65-0625-41EB-BB46-AA2AEC0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5E2-1E79-42D2-B4B2-A1E8A8A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43E41-ACCC-4B03-B8C5-378EBD3295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