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961513"/>
        <c:axId val="35873785"/>
      </c:barChart>
      <c:catAx>
        <c:axId val="759615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73785"/>
        <c:crosses val="autoZero"/>
        <c:auto val="1"/>
        <c:lblAlgn val="ctr"/>
        <c:lblOffset val="100"/>
        <c:noMultiLvlLbl val="0"/>
      </c:catAx>
      <c:valAx>
        <c:axId val="358737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9615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5D82-6CAB-4CB5-A49B-AB840562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5A9E-A59F-490E-863A-1160B3A0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CDB1-5951-4C4B-ADA3-2444DD1BA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C1AB-3655-4309-BD91-5ACA977DD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EFA2-CDB2-4AE7-9428-46927E9D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6775-E79D-47AE-90FD-39345306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9B46-CC84-446A-810A-70C9A1FE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F617-24B2-4478-8894-39079632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E696-DB93-4922-800E-28C99273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F387-BDA8-4427-8AA7-6EE8C3EF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8040-3703-4FA3-A3F2-AE658B3C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EAEA-AA92-41D5-8C26-42E59B36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5EA4D5-0752-4855-8F30-9C7B04FE94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