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1081"/>
        <c:axId val="75972108"/>
      </c:barChart>
      <c:catAx>
        <c:axId val="9991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72108"/>
        <c:crosses val="autoZero"/>
        <c:auto val="1"/>
        <c:lblAlgn val="ctr"/>
        <c:lblOffset val="100"/>
        <c:noMultiLvlLbl val="0"/>
      </c:catAx>
      <c:valAx>
        <c:axId val="75972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1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030-C6DA-40A5-8F3A-1F655390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CB1-BFFA-4CDA-90EF-8C39DBBF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BD9-1778-404C-A10F-BF3924D3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2F1-036E-424F-88A3-9AE139C0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CC9-07D7-4792-B2EF-2300960C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8DC-91AB-4FA4-B2A7-33D9A8FC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931-CB70-45C5-91C5-FA5962A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AC4-E3F7-4AC1-9C05-0C061B12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98E-D25A-406B-B50B-1553378E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24D-8AD6-404F-B9A5-2487F58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7B0-74C3-44C7-A3F2-5BC668A0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F89-C3E2-4014-9FC3-546D3A66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50D63-65CC-4733-82BC-FFDD1D2D6E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