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04607"/>
        <c:axId val="11296773"/>
      </c:barChart>
      <c:catAx>
        <c:axId val="10104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96773"/>
        <c:crosses val="autoZero"/>
        <c:auto val="1"/>
        <c:lblAlgn val="ctr"/>
        <c:lblOffset val="100"/>
        <c:noMultiLvlLbl val="0"/>
      </c:catAx>
      <c:valAx>
        <c:axId val="11296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04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CA4-806A-47CA-9358-941D264B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527-418F-4A5C-B763-A19ABB7E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1AC-0D08-491A-A8BC-3F75DC01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0F2-01B8-40CB-B145-7D16E365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634-3629-4E68-95D9-82BDFF1C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FE9-3EB7-4317-90CB-DEFA487F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B7E-7657-4A32-A9FE-1E34058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CD9-05A6-4086-8494-BF19EC16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42CB-48FA-4B59-B44E-8E8D29CD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F5A-D1B6-4559-9CD2-056A86F4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D03-0414-49E6-B687-B7B6AE6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AD7-9B50-40A9-B657-FAF99B5C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CDBCE-CFA5-4EE7-9AC8-3C2E982E5D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