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22885"/>
        <c:axId val="11900037"/>
      </c:barChart>
      <c:catAx>
        <c:axId val="59522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0037"/>
        <c:crosses val="autoZero"/>
        <c:auto val="1"/>
        <c:lblAlgn val="ctr"/>
        <c:lblOffset val="100"/>
        <c:noMultiLvlLbl val="0"/>
      </c:catAx>
      <c:valAx>
        <c:axId val="11900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22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AFD-80B0-4560-A744-63A8273D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71F-3F67-4E9A-BFD3-6A870555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546-F1F0-451D-B781-05ACBE38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325-56BF-4A24-9C6B-ADCB988C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247-8C95-46DF-9AD4-F0A57D4B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6A0-6BC6-4FF2-9486-06D6A0EB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DCC-4C8E-4133-8D6A-9241277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1FE-32D0-4305-8875-8F2BBEF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214-ABD3-4FD9-9F20-044A0181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D71-1A11-4BF5-B59D-96BD264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DD2-5C76-4BFE-8E73-5BF93D8D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79E-8AF3-43CC-961C-C6512F7F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33DCB-EBD3-4FCF-82B1-594EAE072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